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CC2-067E-4FAD-87BD-EAD47762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421-45FE-4E50-864B-A541A73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12F-AF03-4CC1-80E7-79248827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A43-C363-405C-88AE-D903D56B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754-D45E-4528-A9D7-BBCFF84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6FC-CBE9-4D72-8845-69E6E935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B61-2656-4E5F-97E7-74F9C78D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F0-8B5B-4985-8F39-7AE538E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177-4505-4C1A-9012-00F8B13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DC2-C110-4318-94C0-11D4AF6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116-793C-463E-BB0F-3750E57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E74-9776-4096-BF40-365BBED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C371-8233-43DD-888E-E4614427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298600" cy="163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1844640"/>
            <a:ext cx="1908000" cy="254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522936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By Rhiannon Oldersha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907920"/>
            <a:ext cx="796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500"/>
                    </a:gs>
                  </a:gsLst>
                  <a:lin ang="5400000"/>
                </a:gradFill>
                <a:latin typeface="Arial Black"/>
              </a:rPr>
              <a:t>Do children eat a balanced die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404640"/>
            <a:ext cx="871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I have done some research on children`s e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60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Comic Sans MS"/>
              </a:rPr>
              <a:t>This is what I have been do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41720"/>
            <a:ext cx="676764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 I took 17 photographs of years 3+4 children’s packed lu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41720"/>
            <a:ext cx="68403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Fax"/>
              </a:rPr>
              <a:t>Secondly I gave 15 food dairies to year 3+5.  I got seven completed ones 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835280" y="189000"/>
            <a:ext cx="475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hodology</a:t>
            </a:r>
            <a:endParaRPr b="0" lang="en-US" sz="1800" spc="1" strike="noStrike">
              <a:ln w="0">
                <a:noFill/>
              </a:ln>
              <a:solidFill>
                <a:srgbClr val="ff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49360"/>
            <a:ext cx="6264360" cy="475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Berlin Sans FB Demi"/>
              </a:rPr>
              <a:t>I took 17 photograph of children's lunch boxes and after I did a tally chart and wrote down what they ate.</a:t>
            </a:r>
            <a:r>
              <a:rPr b="1" lang="en-US" sz="4000" spc="-1" strike="noStrike">
                <a:solidFill>
                  <a:srgbClr val="00ffff"/>
                </a:solidFill>
                <a:latin typeface="Berlin Sans FB Dem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2411280" cy="186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200484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at I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children had crisps in their packed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had sandw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% of children had a drink in their packed l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ndered if some children didn’t have a drink all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have a drink in your packed lunch, it is a good idea to go to the water foun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sometimes children might not go to the water fountain because they don’t want to be separated from their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is good for you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you to concen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ops you getting dehyd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5% of children had chocolate in their packed lun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ought this would be hig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diar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what seven children ate on a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hildren did not have a healthy break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children have a sugary ce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 children eat 5 fruit and vegetables a 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 children had 5 or more fruit and vegetable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ticed lots of children have crisps.  5 out of 7 children have crisps during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children had crisps in their packed lunches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could eat healthier snacks.  Instead of crisps they could have a healthy snack, such as a juicy apple or a sweet ban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children should think about when they are older.  They need to remember that what they eat now will affect them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2:58:50Z</dcterms:created>
  <dc:creator>supervisor</dc:creator>
  <dc:description/>
  <dc:language>en-US</dc:language>
  <cp:lastModifiedBy>supervisor</cp:lastModifiedBy>
  <dcterms:modified xsi:type="dcterms:W3CDTF">2007-07-12T11:19:25Z</dcterms:modified>
  <cp:revision>7</cp:revision>
  <dc:subject/>
  <dc:title>Slide 1</dc:title>
</cp:coreProperties>
</file>